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327-1C69-486C-9924-F320A7EB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548-8487-487A-BC55-F4E46D3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3DB4F-D850-4D83-B8C5-CF9648E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F754A-EF3D-43F2-BEF3-BBE93705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607E7-4F8E-473B-9755-11565664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E5846-5D46-47A7-8C7F-07C7A74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9BA71-235B-4757-BF51-615E5CB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19818-5421-4890-A20B-AE836FA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9DFBD-1FC6-440C-B777-1857CC8B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316FF-9D80-4806-9E2A-D021DA0F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68E54-E73B-49B9-B520-DF6BA1F9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35CBB-5A54-440A-9A0F-B576E74F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468-37D4-4E25-BC5D-87C3E175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640C7-5DFF-421A-9D77-97867BD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0CF40-E669-4082-8CD7-888F287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14F6-BB28-4530-8C41-0351092F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5762F-EFE2-471A-96FB-B703426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591D3-36A4-4F18-B9B3-2E723D77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804B-BA80-4631-8050-3FDB18D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B8E87-8D75-4B35-816A-674EF53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B3130-E59E-40AE-AE53-23512B17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407C3-1AD3-4571-B4FE-5FEF260E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EDCA6-BA42-436A-904E-42277F8D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3A1-0D0F-470E-A2F5-A3971545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AB714-0395-44CE-9C92-FF65CF44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690C-6285-4BC6-A216-24AC3176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2245C-FBA8-425A-8D65-2F539D96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9AAD4-C205-46E7-B62F-552A2DD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944CE-6EAA-45A8-8D31-EFDE08A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D2325-BE50-4830-8F14-1E158D23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F522B-19C5-4C4A-AB38-73A1B52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5F57-67A1-4DAD-AE82-E29DB1A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7637-F14D-415E-8286-031E7B2E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191D-411F-47A1-8E52-EF39312C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3803-78F6-49D5-BC6A-D675205C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F4F29-D14F-4B6E-B3CC-159F920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99671-29A9-466B-BFFC-EE54DEF4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CD9C2-B963-4C42-8EDC-CDE98F4B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A2240-BD55-46B8-94D2-19E3DB59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99B28-597F-424A-8EA8-766CE87E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C3494-BF96-4DEB-9EE4-600D93C8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13554-9984-4DBB-9C4A-4FE5747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A482C-330C-46DD-AF75-7E8CF121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6F073-DEC4-4DF9-99D1-2396F2FA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B11A9-CCB6-4C58-A576-4EB2F52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B1CA-F8BE-4B53-8674-51B4BAB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A31DD-6859-4756-9391-A23483F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26B11-7CBE-456F-A438-124D4DC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26F36-4007-4B04-B679-C38B797E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75141-8B65-4AE9-9D3D-3D9C964A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E1C40-5A8E-4545-AC1E-EEF7246E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15746-789E-4C15-97A3-3A63D175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CB813-D287-4598-97EB-3FD13A69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9BE76-70F0-46F2-8E6E-825CD397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345FD-221A-4712-B01E-1E401C4E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799A4-C51E-4B7D-B91E-DBE14AD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FACF-CB67-4331-82AB-F456773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C793A-FD59-4F50-AD46-D6EF083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A3B00-35BF-4433-BA0A-57ED8D5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2DB78-519F-40F9-BC00-3E9A12B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376D5-08CD-4E84-B33D-E25D8FC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9C036-CE7B-4E1C-A686-8CB207B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C0061-4CB6-4EC5-B8A1-04D7EC9F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AB8F6-C048-4AFB-8973-8CF14346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3D4E9-08D9-44F4-8B9F-661FAADE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29C54-C445-46E3-A758-4606285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4F918-64B0-457E-9719-B4B5ED16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3227-92B8-44D9-A257-FAB7447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5EC06-375F-4330-85FC-19E2B60F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9874E-0818-40EF-A7FF-CD7F5EA1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6838D-98F8-46F5-8FC3-7CC3A02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75B10-B40A-4734-B9E7-3CE3BC0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72E21-0DEC-471B-90DD-DD2322F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4FAC4-3B25-4C36-908F-EE0BEF4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08E90-8BAE-45D7-AB07-1533DD70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D6722-B0DA-4C57-95C1-8C9F8C58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AF55E-1400-47BE-A0BB-42D5A1B3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95C84-FD29-4B23-A495-75214FBE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F30-E890-443B-B735-3498DE37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092B9-F00C-4436-BB10-A14ADB31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31EFA-4B6D-4724-99DC-C15CCA6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A9246-5EFE-4D82-B57F-95AF94CA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9EC65-D067-440B-9E12-EF17FF0F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00884-239F-4A1A-AAE8-55E895A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931F2-DB00-4F33-8A27-B92C5C6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6EAF2-AC92-4CFD-B3A7-8A5CC81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ED850-1C01-46EA-91C1-0373F76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8B2DA-48A2-4B5B-9E32-3A84B52A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9A74F-6FAC-4E93-86B4-019007D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503-1030-4077-A54F-DB96B389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BAAA4-6E10-4211-AF01-F1C7ACFA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D66E-EF32-4893-81E1-2063E16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253-2CF7-4F2B-A33D-76020EC4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CC5-64C5-4208-810C-8E20C22E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7841-5746-47E4-9F56-2A16DB1C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9FA-43BA-459F-BB88-FED69E1C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AC8-E4A0-40C0-BB0B-D26BA21F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A127-9CBA-4A9D-9575-81D4AE47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3815-95A4-433A-8071-670B9D0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334D-6317-4BF2-AE42-CC8A72F0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81D0-2B09-4A21-8CCB-B4DBD685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52C3-7E78-43A3-941A-29AF04E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27A2-418C-41F0-9A2C-33E45A6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639-8AB0-4D99-997C-AAAD47A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F0EB-0727-460F-B71A-FD4B9634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C02B-5339-4D13-903A-A80AA03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1852-C055-4B20-9FED-85912CB2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A5C8-D4AB-4EFA-AAF6-39947A9A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3A64-4B69-4EB4-B8AB-53DB7A03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6D53-4B9E-48CD-901C-0DCCDD3A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7227-1BCF-4270-949C-945BF385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2C87-1140-445B-9C18-30888627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A3BC-6A17-4983-B384-5E44788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D992-6E83-4665-8F37-75E6EAD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112-4D43-4DCF-873F-A441077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277C-5F6F-44A5-A400-BC27CDEE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FB46-20BD-46CA-A74F-A2FBD33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1768F-87B3-4005-B404-8B8C9476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AE2E-482D-4D5A-B438-20B6400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01D6-E9A1-4998-B3FB-3FEB935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4141-BC09-43CD-BF72-BF2478C9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87A2-A669-4289-B5F1-652DBA5D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8683-412F-4A9B-82D6-CBA12E52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547E-466D-4844-94FB-EF26C2F0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AFCC-14E8-43B3-97B7-DF048C0D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6E8-BEA1-4E60-94C2-675C18AF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C4D4-AB07-43F4-90FF-873FB997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7BFCF-B0AC-4A4A-B0DC-34A3C10A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FDF4-EC20-460D-A71E-9DF8E05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9366-619C-4BCE-A141-59B97ECF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EB7B-6508-4B1B-BB90-3ADB0D2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457B-7DF1-4C7C-88C1-8B775F2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7E40-2179-476E-90AA-1DC437C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CFBB-9D4B-47C2-9BBE-7EF0AF5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95BD-7641-412C-850C-69D3EDE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4CF90-3912-45C4-9C6F-FE37CFD8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42A-6C1C-4C06-B5DE-3AA28A88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492C-F013-4C8B-8E04-838CB018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2F77-9DFE-4857-99B6-0B2C7D0A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CAB21-AB31-443E-9D30-7E619F47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C807-AA63-46EF-81B7-9738C762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931A-9115-4404-839A-EE5C1702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503A-189D-48F8-9CC6-89080BE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E2D0-6B88-49B3-951E-2A37A7C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246BC-CF84-4853-B052-9E66076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E7D8-225F-4D54-9D8F-E03CCB9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B41F-0F88-4E7D-BD03-8A50314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3BA-2E76-477D-AFF3-C7551CE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D08E-1A07-4F30-B469-ACDB9E9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C8B7-38C9-44BF-B537-08EEE8F3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7A00-42EB-4F3A-A778-BA2B9799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CB689-3568-4E3B-8FEF-D7B4FE53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230A-E8B6-4834-A113-F16A379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E1C6D-F1CC-477B-BD9F-36CDD1B6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2FDC7-63FA-4FC6-B529-793B3B98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0246-A2BD-4EEB-BA3D-F8A42CD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865F-A04A-4F1D-9FE0-09026615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5708-EDD1-403E-8640-8A64B73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854-BB16-4D5D-A105-FC921C4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290A-400F-42EB-AE99-49A23B3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FA93-D79F-41E3-A3AD-78D49C9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3D5D-857C-4E6D-901D-B041AD43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8E3B-C91D-4351-A29D-9644A309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CFCF-0D1C-4DF9-AE6E-2209E6B0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7353-F4A2-4A0E-B885-675E511C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158C-ED5F-4049-981C-471042D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A4667-2A22-41EE-B975-9A756FB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6843-24FF-4513-B621-B19C987C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A6E9-A483-4C4B-A1F6-7AE82179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4F4-50AE-414E-A591-8830545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3F06-055F-4F09-B3D1-2EF23A1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959B8-A432-4AFC-BB4B-D1A658C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DA198-1ED7-4B37-A6C5-4FF5ACAC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C574B-FE33-439F-B2C2-0C3FF75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198D9-1840-4724-84E2-2D78944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5F4F-16BB-41C0-9C83-30BA75A6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CDB0-2060-44FC-9D53-5FE7A439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0F30E-33ED-47C7-AECB-F05F3990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568C5-81ED-4879-8F73-16B8066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260F8-BDE7-4442-A52F-A12A31C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B0E9F-14E2-4E94-946F-774D3DEDC23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81B28-5BB8-4CD3-B06D-5665E73A7FE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2A78B-CE71-440C-87BE-63146155D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A7A65-131E-4CC2-8280-9E6ECB8D7049}" type="slidenum"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C7614-50BD-4BF5-9372-5DA331F0B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B986E-7317-4C7F-9D95-996DBA2148A8}" type="slidenum"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41CDD-A6C8-4A7F-973E-91881F8F50E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DD40E-8341-44F3-B363-8DB800DB97C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00D6A-04A3-41C2-8482-FD3DE4774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DD597-43EB-4085-8810-9F5A5FE8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2CE30-0606-445F-A407-7DACCDD444D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B1B6F-2874-4FD8-A261-A7B13680397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FCE9F-22B7-449D-B2BD-32573882595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85B65-7FFF-4AD8-9B45-42165507A26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1D9D9-3A64-4455-8660-D57751089781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98B53-B1F3-458B-8807-32371431C8C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CB45D-8CB2-42FA-960C-0CB306E4E0E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1CD4B-D82D-40E4-9D22-B2D6BCE74C4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AEC35-487E-4834-AFE0-EFD9EBF967F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CDDE2-7993-4885-BADC-97E8CB8D7DF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374BB-A7B6-4CE9-A0BD-AB3D6C3EDCB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E4BDC-95DE-4A4B-9796-C62F4B0C7F5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C8E49-0C55-491D-9F21-0E301B7515D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6C2DC-5640-4E7D-BBEA-4D1915955D7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2DE4A-59BC-4691-8F52-2219D3BE62A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3E517-F8FA-4520-B0FD-C312E51598D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AED2D-A005-4C22-9708-B4CDE6DB6E9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8E3A4-9F98-450F-B487-C7CCEAE793A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62E64-FD1F-43FB-829B-A4BD8E4F68F6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9966A-9D3F-4A79-B1B0-140F9A9DF9E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ing Community Partners’ Motivations to Participate in Academic Outreach</a:t>
            </a:r>
            <a:br>
              <a:rPr sz="16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79040" y="4572000"/>
            <a:ext cx="758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Barrera, Ph.D.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alifornia, Los Ange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SLCE Annual Confer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, M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24, 201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 by cas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vided data by case &amp; constituenc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 cycle coding within case looking for converging and diverging dat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cycle coding within case looking for categori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ustered categories across the case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651EF-FB18-444B-B466-FC88D064AE4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The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tioned and clustered the data (both interview &amp; document data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veloped emergent themes across cas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vic interdependence emerged from themes on motiv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0CCB8-2FF6-4816-9DE3-CEC639BA9FD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E4343-E36C-47E4-8292-9F43359D932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4920" y="2971800"/>
            <a:ext cx="3657600" cy="2308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TUAL RESOURCE DEPEND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Task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Assista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Presti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Stu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4" name="Straight Connector 6"/>
          <p:cNvSpPr/>
          <p:nvPr/>
        </p:nvSpPr>
        <p:spPr>
          <a:xfrm>
            <a:off x="4267080" y="4114800"/>
            <a:ext cx="10162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5486400" y="2787480"/>
            <a:ext cx="344340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OLOGICAL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Increase Access for U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12"/>
          <p:cNvSpPr/>
          <p:nvPr/>
        </p:nvSpPr>
        <p:spPr>
          <a:xfrm>
            <a:off x="533520" y="1600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s to Particip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Resource Depend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sk suppor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chnical assistanc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niversity prestig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cess to stud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A1FB0-DE2C-4FE4-9350-1C20EA7B0C5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Mot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ed to increase acce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cial responsibilit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D9626-AE40-4B7E-B049-73227718440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4560" y="160020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dget cuts have small impact on how partners view the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c interdependence explains partners’ particip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tual need for resource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tual responsibility to address access gap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ared commitment to increase acces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ared desire to increase engagemen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C71C2-E9E9-4F2B-81A9-C3BF76C4B1B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431BB-690B-4798-8A85-0FEC036CADB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Diagram 4" descr=""/>
          <p:cNvPicPr/>
          <p:nvPr/>
        </p:nvPicPr>
        <p:blipFill>
          <a:blip r:embed="rId2"/>
          <a:stretch/>
        </p:blipFill>
        <p:spPr>
          <a:xfrm>
            <a:off x="1371600" y="2262240"/>
            <a:ext cx="68515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rib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880" y="1600200"/>
            <a:ext cx="83822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ing the motivations of school partners to participate in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th resource dependency and ideological motivation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tter understanding of what actions lead to good relationships between schools and universities in the context of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s budget cuts have on these relationship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 of community voice to research on institutional civic engagement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C1739-8925-4932-ABAE-48EA3318088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779040" y="3478320"/>
            <a:ext cx="758340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Informatio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g Barre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arrera@college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LA Center for Community Lear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communitylearning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Responsibility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History of purposes extending to the public goo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Need to expand access to postsecondary educ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The role of outreach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7DCFC-6D23-4A75-99F5-16C93B4646B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erature on Outreach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9040" y="1828440"/>
            <a:ext cx="7983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ost studies focus on student outcomes (Gándara &amp; Bial, 2001; Gónzalez &amp; Moll, 2002; Tierney &amp; Jun, 2001) 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ed research that focuses on the relationships with school partn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earing directly from community stakehold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effects of current economy on outreach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t means for the university meeting its diversity and social responsibility goal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6CF4A-1837-42C0-8330-4EB51508BFE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oretical framewor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560" y="1345680"/>
            <a:ext cx="84582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e school partners participat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ifferential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s dependent on resource-rich partners (Jacobs, 1974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reduce dependencie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(Hall et al, 1977; Lundin, 2007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material reasons (Johnson, 1995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c 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C8201-E832-4E10-8C12-6BFF8C2D468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earch 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do community partners participate in college preparation outreach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es the university articulate its commitment to social responsibility and diversity, and how does participation in college preparation outreach affect community partners’ views of the university’s commitment?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56664-16E1-422A-B963-FBF14B8DB57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79040" y="1828440"/>
            <a:ext cx="75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f the Public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throughout re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underrepresented stu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advising for select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rest of school when availabl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2B79A-E067-41A9-99A9-8AB8F54F11E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79040" y="1828440"/>
            <a:ext cx="758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in narrow geographic ar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all students in the schoo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prepare students to be STEM maj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s students for annual competi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F285B-5FBB-4BB4-B728-046317F2B92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ta Coll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79040" y="1345680"/>
            <a:ext cx="7583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greem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material (web content &amp; brochu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partn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taf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rectors, two coordinators for U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protoc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lasted average of 45 minu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CCD99-3F9E-42F5-93DB-23FD9CCFF2C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mp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1676520"/>
            <a:ext cx="853416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4 teachers &amp; 2 counselo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15 counselors (at 14 schools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nd 2 site coordinators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D8DAD-DCC6-447E-9805-1F653E97107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6:46:41Z</dcterms:created>
  <dc:creator>Douglas Barrera</dc:creator>
  <dc:description/>
  <dc:language>en-US</dc:language>
  <cp:lastModifiedBy>Douglas Barrera</cp:lastModifiedBy>
  <dcterms:modified xsi:type="dcterms:W3CDTF">2012-09-23T22:51:04Z</dcterms:modified>
  <cp:revision>43</cp:revision>
  <dc:subject/>
  <dc:title>Whose Job Is It Anyway? A Qualitative Exploration of Early Academic Outreach Through a Community-Campus Partnership Model </dc:title>
</cp:coreProperties>
</file>